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4BD-3DC1-4758-862F-06C40680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B3F-82DF-41CC-92B8-3D5E4DC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BFF-B1B0-4D52-A35F-6390A2A0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7F0-9BC7-4DAA-AC86-5614257C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6B17-FC36-489A-ABF2-A7CB971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5C33-2E20-4E75-99B3-1E45A62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9CF-FBFA-4EFE-884E-8D30FB4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4DEA-7BE8-4579-99C3-F19F74E1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F85-F7D7-4AB0-A6F4-D628E46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C76-187E-428F-8A72-131EDD8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48E4-E376-44CB-9466-DA5440A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BEF-DDBA-40E4-B782-5AD1E99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5FB9-14F1-4D9D-B7A0-9B21A26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72EE-BC7C-4B78-A2A1-F03FAA0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397B-D9E0-4B03-BAFD-B00DABC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FDE-6C0A-4B41-8822-87C63144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FD97-72D7-4FBE-98CB-1A8CEA2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6A6-A736-4EF1-B08B-BA90808C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6F8-89B7-4F6A-9BA5-A0ADC9F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0EC-C43B-4FA9-A5E2-0460430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2F9-AC5A-4C2E-87F3-49AFC2E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8CC-F49A-477D-B0BA-46972F4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A5C-37AA-4EBA-8BA6-5C127AA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AFA-17D8-4782-96BE-8FB848D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96B7-8BA1-4EED-A018-4E0ECF3A55B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F25-6EEB-4868-A6FA-7AB59589ADE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l Reaso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nying the consequent—saying the “then” part did no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id not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(2) fallacies involv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nying the antece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do not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not learn any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Not necessarily!  One may learn out of schoo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ffirming the conseq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gain, one may learn elsewher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ither-or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ther 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don’t lik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tar Tre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Formally valid, but can’t we like both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mal correctness insufficient to gain adhere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cise language essential to analyzing and appraising argu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ertainty cannot always be establish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soning does not always follow three-liner for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rgumentation seeks to link “known” to the unknown—formal reasoning cannot do th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Consul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arefsky, David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rgumentation: The Study of Effective Reasoning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ditio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he Great Courses.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antilly, VA: The Teaching Company, 200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irie, Madsen.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ow to Win Every Argument: The Use and Abuse of Logi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  London: Continuum, 2006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erned with “form” or struc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ed have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to do with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ntent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 f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y use symbols (e.g.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ζ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, Þ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ing for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 mentioned above, formal logic doesn’t have to have anything to do with the real 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idity” is about form, not f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heavenly bodies are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a heavenly bo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sun is made of mil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ductive and Indu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certa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no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clusions are proba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new inform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rmal reasoning 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d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Sy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 together +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log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reason, discou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ins three (3) par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ree (3) syllogistic types here considered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tegoric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ditio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jun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ll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None,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“Some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syllog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und example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freshmen are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j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inor premis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ulty examp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reshmen are laz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a fresh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n is lazy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ybe, maybe no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c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tter example of “some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girl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are gir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students like Jane Aust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An unfounded generalization?  You betch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ut a formally correct one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f-then”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llog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equ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,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yllog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firming the antecedent—saying the “if” condition did in fact occ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go to school, 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go to scho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You will learn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9:24:40Z</dcterms:created>
  <dc:creator>csclab</dc:creator>
  <dc:description/>
  <dc:language>en-US</dc:language>
  <cp:lastModifiedBy>csclab</cp:lastModifiedBy>
  <dcterms:modified xsi:type="dcterms:W3CDTF">2009-09-04T12:38:47Z</dcterms:modified>
  <cp:revision>15</cp:revision>
  <dc:subject/>
  <dc:title>Syllogisms</dc:title>
</cp:coreProperties>
</file>